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246-7454-4432-A71C-1DE87F2C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8AC-984C-4EC7-B77D-F6B42E88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CFB-7937-4EFD-B3DF-26B42F11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C84-495E-449D-B1CA-AF77CD21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2C9-60A9-4957-816B-03748224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7C7-194B-4C18-BBD0-1E75DA29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839-340F-4075-B3B3-2F486D65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BDD-0F19-4497-8387-1CA3958A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DBA-446C-468B-B279-445DA498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2DD-9EEA-4DE0-ACAA-FA8D0D3E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2E1-D279-4A5A-A1EB-03CAF9EC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866-DD36-46B3-9594-B13F7CF5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4112-8B4E-4B0C-B2C4-77C7ED0C4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timal Maintenance Zoning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or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bile Repair Stations Op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Developed by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Dr. Igor Usha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4EE-5C7D-44A3-B0ED-71480B1BC2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Approximate Estimate of Financial 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Currently in use about 400 MRS within the Unit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Designed zoning for MRS decreases the number of required MRS up to 350 without service degr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Each MRS (year): about $50,000 for technician salary+at least 50% overhead ($25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TOTAL: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$3,750,000 a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=75,000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This calculation did not include savings from reduced number of b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A1E-2998-44B7-BCD4-60B5782870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.U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7CC-5CD1-4E80-BDCB-F04CFCBAA3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uxiliary explanatory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09680" y="3885840"/>
            <a:ext cx="50292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 possible  discus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875-CA3D-468B-AD81-1EADE94521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19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888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62120" y="1247760"/>
          <a:ext cx="3753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2120" y="1247760"/>
                    <a:ext cx="3753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D1F-7706-4B11-B4B8-08E1453A08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90520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2000" y="685800"/>
          <a:ext cx="41986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2000" y="685800"/>
                    <a:ext cx="41986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416-7CA7-48D3-9EB0-0C0702A72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Zones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396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put data for Flor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y   # call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e (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ch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17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y                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9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dford     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23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v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234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ard       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40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hou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otte        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69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us         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2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. .               . . .        . . .                     . 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 . . . . . . . . . . . . . .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2096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792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43000" y="2209680"/>
          <a:ext cx="320040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32004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20F-CBED-4EE3-85A1-1B86AD9FE3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Single MRS Zones:  Ste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396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y   Call 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0.047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:       0.047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hr              0.67 h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814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90720" y="2514600"/>
          <a:ext cx="3429000" cy="31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34290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3C9-4C77-4193-A3AE-84B5E6AAB3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Single MRS Zones:  Step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396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y   Call 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0.047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roe       0.005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:       0.052        0.8 hr             0.82 h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90720" y="2209680"/>
          <a:ext cx="3429000" cy="31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34290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359-037E-4947-B778-356BE0F470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Single MRS Zones:  Step 3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(1st attemp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396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y   Call 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0.047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roe       0.00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ard      0.05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:       0.106     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2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rs         0.98 h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mark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variant is rejected due to exceeding waiting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133720"/>
          <a:ext cx="3429000" cy="31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34290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C0B-D2A7-49A6-A6DC-377FCB6E31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Single MRS Zones:  Step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396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y   Call 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0.047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roe       0.00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ier         0.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:       0.062          1.1 hrs           1.06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2133720"/>
          <a:ext cx="3505320" cy="32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3505320" cy="32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18D-D078-4BF8-A8C1-28B61743B2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Single MRS Zones:  Step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396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y    Call 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a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0.047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roe       0.00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ier         0.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dry       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:       0.063          1.3 hrs          1.18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38080" y="2057400"/>
          <a:ext cx="3581640" cy="33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3581640" cy="33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57A-071E-4286-ADA8-B8AB54E169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Multiple MRS Zones:  Pha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396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y   Call 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e            0.047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roe        0.00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ard       0.0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ier          0.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:       0.116          0.17 hrs       1.97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mar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 single MRS, the waiting time was 2.3 hrs only for three Counties: Dade, Monroe and Coll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86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38080" y="1981080"/>
          <a:ext cx="3657600" cy="31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657600" cy="31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B73-25B9-4171-BD77-17899AD942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Multiple MRS Zones:  Phas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396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y   Call 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e            0.047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roe        0.00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ard       0.0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ier          0.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 Beach 0.0.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dry        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          0.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e               0.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des         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. Lucie        0.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:       0.192          0.78 hr  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2.75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mark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 time close to limit acceptable value (3 hrs), so the Zone construction is considered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86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2120" y="2057400"/>
          <a:ext cx="3809880" cy="32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3809880" cy="32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Diego, June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8A3-7C8A-4C6E-8A44-BAA36DDF0B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6:27:09Z</dcterms:created>
  <dc:creator>iushakov</dc:creator>
  <dc:description/>
  <dc:language>en-US</dc:language>
  <cp:lastModifiedBy>Igor Ushakou</cp:lastModifiedBy>
  <cp:lastPrinted>2001-05-30T20:26:49Z</cp:lastPrinted>
  <dcterms:modified xsi:type="dcterms:W3CDTF">2005-10-07T21:04:09Z</dcterms:modified>
  <cp:revision>13</cp:revision>
  <dc:subject/>
  <dc:title>Target Stock Level: Optimal Allocation of FRU at FSR</dc:title>
</cp:coreProperties>
</file>